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90E-1CA1-42CE-B239-B2858BE4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0A5-94FC-4722-BA95-4E8D740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BF6-2BE0-4F9F-A550-9D61A9A3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AA6-53C2-4381-826C-00B9662B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1B9-7E4E-4443-988C-B59DCB01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993-0CEC-4D34-BC9A-06334395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A97-11D1-421A-9F86-1F1A5ECF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848-82A1-4471-B2F0-18E698C5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30E-9703-470E-B58B-2FB8869A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145-8372-436B-B9C2-200E697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C03-440A-44AA-A7A9-087AE06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3C0-61C4-48E0-8A7E-EACB1FA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b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b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b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746-21E0-4D2E-BB12-E948DBBA7101}" type="slidenum">
              <a:rPr b="0" lang="en-US" sz="1200" spc="-1" strike="noStrike">
                <a:solidFill>
                  <a:srgbClr val="8989ab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Woher kommen 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kosmische Teilchen?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tin Pohl</a:t>
            </a:r>
            <a:endParaRPr b="0" lang="en-US" sz="3200" spc="-1" strike="noStrike">
              <a:solidFill>
                <a:srgbClr val="00007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Isotropi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73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700200" y="1676520"/>
            <a:ext cx="4260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Homogenes Magnetfeld in x-Richt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Teilchen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Welle: 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Welle am Ort 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des Teilchens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Magnetische Kraft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Konstante Kraft: 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2743200" y="2438280"/>
                <a:ext cx="941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4876920" y="2438280"/>
                <a:ext cx="2038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895480" y="3048120"/>
                <a:ext cx="37292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de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2819520" y="4038480"/>
                <a:ext cx="3906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de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3429000" y="4952880"/>
                <a:ext cx="4444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∝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±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3352680" y="5867280"/>
                <a:ext cx="17020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Supernovarest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82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83" name="SNR.wmv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6864840" y="6400800"/>
            <a:ext cx="10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Quelle: 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46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Supernovarest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86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RXJ-gallery.jpg"/>
          <p:cNvPicPr/>
          <p:nvPr/>
        </p:nvPicPr>
        <p:blipFill>
          <a:blip r:embed="rId2"/>
          <a:stretch/>
        </p:blipFill>
        <p:spPr>
          <a:xfrm>
            <a:off x="685800" y="2819520"/>
            <a:ext cx="3360600" cy="3322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158480" y="6248520"/>
            <a:ext cx="671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f"/>
                </a:solidFill>
                <a:latin typeface="Arial Black"/>
              </a:rPr>
              <a:t>Image courtesy of F. Acero and ESA                         Image courtesy of W. Hofmann (HESS)</a:t>
            </a:r>
            <a:endParaRPr b="0" lang="en-US" sz="12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89" name="Picture 7" descr="1713map_hess_full.jpg"/>
          <p:cNvPicPr/>
          <p:nvPr/>
        </p:nvPicPr>
        <p:blipFill>
          <a:blip r:embed="rId3"/>
          <a:stretch/>
        </p:blipFill>
        <p:spPr>
          <a:xfrm>
            <a:off x="4800600" y="2971800"/>
            <a:ext cx="3600360" cy="2867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990720" y="20574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Nichtthermische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Roentgenstrahl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984200" y="243828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Gammastrahlung (TeV-Band )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Supernovarest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93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914400" y="1981080"/>
            <a:ext cx="74674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Supernovareste beschleunigen Teilchen,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aber wie?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Sternenhuelle wird abgesprengt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Etwa eine Sonnenmasse Gas wird abgestossen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Geschwindigkeit von einigen Tausend km/s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Schockwellen werden erzeugt (Ueberschallknall)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Beschleunigung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96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schock.jpg"/>
          <p:cNvPicPr/>
          <p:nvPr/>
        </p:nvPicPr>
        <p:blipFill>
          <a:blip r:embed="rId2"/>
          <a:stretch/>
        </p:blipFill>
        <p:spPr>
          <a:xfrm>
            <a:off x="3657600" y="2057400"/>
            <a:ext cx="4957920" cy="427356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715320" y="2286000"/>
            <a:ext cx="221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Magnetische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Reflexio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auf beiden Seit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Langsame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Beschleunig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Kein Problem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N-Reste sind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~ 1000 Jahre alt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Strahlungsprozess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00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941760" y="1676520"/>
            <a:ext cx="717264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Fuer Elektronen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ynchrotronstrahlung (Beschleunigung in Magnetfeld)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Paarvernichtung (Elektron + Positron </a:t>
            </a:r>
            <a:r>
              <a:rPr b="0" lang="en-US" sz="1800" spc="-1" strike="noStrike">
                <a:solidFill>
                  <a:srgbClr val="00007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Gammastrahlung)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Comptonstreuung (Elektron / Photon Energieaustausch)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Wahrscheinlichkeit                               (nichts fuer Protonen)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Fuer Protonen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toesse mit Gas </a:t>
            </a:r>
            <a:r>
              <a:rPr b="0" lang="en-US" sz="1800" spc="-1" strike="noStrike">
                <a:solidFill>
                  <a:srgbClr val="00007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Pion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Zerfall in Elektronen, Neutrinos und Gammastrahl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3517920" y="3809880"/>
                <a:ext cx="15066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dun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ss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Mysterioeses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04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rb_animation"/>
          <p:cNvPicPr/>
          <p:nvPr/>
        </p:nvPicPr>
        <p:blipFill>
          <a:blip r:embed="rId2"/>
          <a:stretch/>
        </p:blipFill>
        <p:spPr>
          <a:xfrm>
            <a:off x="3733920" y="2590920"/>
            <a:ext cx="4633920" cy="37177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2339640" y="1600200"/>
            <a:ext cx="37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Gamma-ray bursts</a:t>
            </a:r>
            <a:endParaRPr b="0" lang="en-US" sz="32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380880" y="2971800"/>
            <a:ext cx="2749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Die hellsten Quell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der Welt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GRET Bild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des Gesamthimmels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im GeV band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502520" y="6477120"/>
            <a:ext cx="10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Quelle: 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Gamma-ray bursts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10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rb_profiles.jpg"/>
          <p:cNvPicPr/>
          <p:nvPr/>
        </p:nvPicPr>
        <p:blipFill>
          <a:blip r:embed="rId2"/>
          <a:stretch/>
        </p:blipFill>
        <p:spPr>
          <a:xfrm>
            <a:off x="3962520" y="1828800"/>
            <a:ext cx="4546440" cy="45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859680" y="2743200"/>
            <a:ext cx="194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Lichtkurven: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Keine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Systematik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788880" y="6488280"/>
            <a:ext cx="151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Astrophysical Journal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Gamma-ray bursts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15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2512_grbs_fluence.jpg"/>
          <p:cNvPicPr/>
          <p:nvPr/>
        </p:nvPicPr>
        <p:blipFill>
          <a:blip r:embed="rId2"/>
          <a:stretch/>
        </p:blipFill>
        <p:spPr>
          <a:xfrm>
            <a:off x="2819520" y="1828800"/>
            <a:ext cx="5983200" cy="43228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514080" y="2209680"/>
            <a:ext cx="191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Keine 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bevorzugte 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Richt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xtragalaktisch?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7169760" y="6248520"/>
            <a:ext cx="10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Quelle: 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Gamma-ray bursts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20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143481main_oddball_grb_500.jpg"/>
          <p:cNvPicPr/>
          <p:nvPr/>
        </p:nvPicPr>
        <p:blipFill>
          <a:blip r:embed="rId2"/>
          <a:stretch/>
        </p:blipFill>
        <p:spPr>
          <a:xfrm>
            <a:off x="914400" y="2286000"/>
            <a:ext cx="5238720" cy="25876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871560" y="1752480"/>
            <a:ext cx="63896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Gamma-ray bursts leuchten nach!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Courtesy 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	</a:t>
            </a: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	</a:t>
            </a: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	</a:t>
            </a: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	</a:t>
            </a: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	</a:t>
            </a: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	</a:t>
            </a:r>
            <a:r>
              <a:rPr b="0" lang="en-US" sz="1100" spc="-1" strike="noStrike">
                <a:solidFill>
                  <a:srgbClr val="00007f"/>
                </a:solidFill>
                <a:latin typeface="Arial"/>
                <a:ea typeface="Arial"/>
              </a:rPr>
              <a:t>Swift/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2120" y="5410080"/>
            <a:ext cx="72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Optische Spektren </a:t>
            </a:r>
            <a:r>
              <a:rPr b="0" lang="en-US" sz="1800" spc="-1" strike="noStrike">
                <a:solidFill>
                  <a:srgbClr val="00007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Entfernungsbestimm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xtragalaktisch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Rekord: 13 Mrd. Lj entfernt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Eine andere Welt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44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97293main_Fermi_1_year_revised.jpg"/>
          <p:cNvPicPr/>
          <p:nvPr/>
        </p:nvPicPr>
        <p:blipFill>
          <a:blip r:embed="rId2"/>
          <a:stretch/>
        </p:blipFill>
        <p:spPr>
          <a:xfrm>
            <a:off x="1371600" y="1828800"/>
            <a:ext cx="6553080" cy="3909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242440" y="59436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Der Himmel im Licht von Gammastrahl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Gamma-ray bursts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25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357560" y="1905120"/>
            <a:ext cx="647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Immenser Energiebedarf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Gammastrahlung sollte absorbiert werden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Relativistische Ausfluesse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Strahlungsverstaerkung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Weniger Energie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Mehr Objekte 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27" name="Picture 6" descr="230233main_AGN1_sm.jpg"/>
          <p:cNvPicPr/>
          <p:nvPr/>
        </p:nvPicPr>
        <p:blipFill>
          <a:blip r:embed="rId2"/>
          <a:stretch/>
        </p:blipFill>
        <p:spPr>
          <a:xfrm>
            <a:off x="6248520" y="3657600"/>
            <a:ext cx="2143080" cy="2678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788520" y="6400800"/>
            <a:ext cx="10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Quelle: 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Gamma-ray bursts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30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31" name="143477main_403 GRB Collapsar Model Par_NASA WebV_1.mpeg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388520" y="1676520"/>
            <a:ext cx="64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Black"/>
              </a:rPr>
              <a:t>Lange gamma-ray bursts:  Collapsare</a:t>
            </a:r>
            <a:endParaRPr b="0" lang="en-US" sz="2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609480" y="2666880"/>
            <a:ext cx="220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in massiver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tern kollabiert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in schwarzes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Loch entsteht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Drehimpuls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wird abgefuehrt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483960" y="6248520"/>
            <a:ext cx="10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Quelle: 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30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Gamma-ray bursts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36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37" name="165467main_208 Binary Star Merger V001_NASA WebV_1.mpg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796320" y="2209680"/>
            <a:ext cx="210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Neutronensterne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oder 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chwarze Loecher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verschmelz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-&gt; ein massiveres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chwarzes Loch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ntsteht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4640" y="167652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Black"/>
              </a:rPr>
              <a:t>Kurze Gamma-ray bursts</a:t>
            </a:r>
            <a:endParaRPr b="0" lang="en-US" sz="2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7017120" y="6400800"/>
            <a:ext cx="10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Quelle: 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296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In der Milchstrasse?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42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1421640" y="1905120"/>
            <a:ext cx="652788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Ein Gamma-ray bursts pro Million Jahre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Gammastrahlung wird von Atmosphaere absorbiert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Stickstoff wird aufgebrochen und NO</a:t>
            </a:r>
            <a:r>
              <a:rPr b="0" lang="en-US" sz="2000" spc="-1" strike="noStrike" baseline="-25000">
                <a:solidFill>
                  <a:srgbClr val="00007f"/>
                </a:solidFill>
                <a:latin typeface="Arial Black"/>
              </a:rPr>
              <a:t>x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erzeugt 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Stickoxyde zerstoeren die Ozonschicht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UV Intensitaet erhoeht sich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GRB am galaktischen Zentrum: Effekt 5%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GRB innerhalb 2500 Lj: Effekt 100%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Einfluss auf Leben?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45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grb_of_doom1.jpeg"/>
          <p:cNvPicPr/>
          <p:nvPr/>
        </p:nvPicPr>
        <p:blipFill>
          <a:blip r:embed="rId2"/>
          <a:stretch/>
        </p:blipFill>
        <p:spPr>
          <a:xfrm>
            <a:off x="1676520" y="2362320"/>
            <a:ext cx="5924520" cy="4047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1607400" y="1752480"/>
            <a:ext cx="59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Black"/>
              </a:rPr>
              <a:t>Katastrophe alle 100 Million Jahre?</a:t>
            </a:r>
            <a:endParaRPr b="0" lang="en-US" sz="28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702920" y="6095880"/>
            <a:ext cx="10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f"/>
                </a:solidFill>
                <a:latin typeface="Arial"/>
              </a:rPr>
              <a:t>Quelle: NASA</a:t>
            </a:r>
            <a:endParaRPr b="0" lang="en-US" sz="11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Astroteilchenphysik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150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6477120" y="1600200"/>
            <a:ext cx="2041560" cy="1501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3143160" cy="15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257800" y="5257800"/>
            <a:ext cx="3343320" cy="13572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>
            <a:off x="840600" y="2209680"/>
            <a:ext cx="3391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Bodengebundene Detektor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atellitendetektor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chnelle Entwickl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ines neuen Forschungsfelds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Eine andere Welt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48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937800" y="1828800"/>
            <a:ext cx="6932160" cy="45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Thermische Systeme: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Sterne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7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Interstellares Gas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Nichtthermische Systeme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Energiereiche Teilchen dominieren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Astroteilchenphysik 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7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7f"/>
                </a:solidFill>
                <a:latin typeface="Arial Black"/>
              </a:rPr>
              <a:t>studiert nichtthermische Systeme</a:t>
            </a:r>
            <a:endParaRPr b="0" lang="en-US" sz="2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Kosmische Strahlung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51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essballonnah.gif"/>
          <p:cNvPicPr/>
          <p:nvPr/>
        </p:nvPicPr>
        <p:blipFill>
          <a:blip r:embed="rId2"/>
          <a:stretch/>
        </p:blipFill>
        <p:spPr>
          <a:xfrm>
            <a:off x="685800" y="3276720"/>
            <a:ext cx="201924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3"/>
          <a:stretch/>
        </p:blipFill>
        <p:spPr>
          <a:xfrm>
            <a:off x="633240" y="2255760"/>
            <a:ext cx="81568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Kosmische Strahlung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55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ksspec.jpg"/>
          <p:cNvPicPr/>
          <p:nvPr/>
        </p:nvPicPr>
        <p:blipFill>
          <a:blip r:embed="rId2"/>
          <a:stretch/>
        </p:blipFill>
        <p:spPr>
          <a:xfrm>
            <a:off x="1600200" y="2514600"/>
            <a:ext cx="5751360" cy="3770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795680" y="1828800"/>
            <a:ext cx="54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nergie bis zu einigen Joule (aber kleiner Impuls)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Kosmische Strahlung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59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305000" y="2743200"/>
            <a:ext cx="65768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Warum  …</a:t>
            </a:r>
            <a:endParaRPr b="0" lang="en-US" sz="32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ist die kosmische Strahlung isotrop?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f"/>
                </a:solidFill>
                <a:latin typeface="Arial Black"/>
              </a:rPr>
              <a:t>Wie  …</a:t>
            </a:r>
            <a:endParaRPr b="0" lang="en-US" sz="32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     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00007f"/>
                </a:solidFill>
                <a:latin typeface="Arial Black"/>
              </a:rPr>
              <a:t>werden die Teilchen beschleunigt?</a:t>
            </a:r>
            <a:endParaRPr b="0" lang="en-US" sz="24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Isotropi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62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elix.jpg"/>
          <p:cNvPicPr/>
          <p:nvPr/>
        </p:nvPicPr>
        <p:blipFill>
          <a:blip r:embed="rId2"/>
          <a:stretch/>
        </p:blipFill>
        <p:spPr>
          <a:xfrm>
            <a:off x="609480" y="4114800"/>
            <a:ext cx="4019760" cy="2084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955440" y="1905120"/>
            <a:ext cx="7450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Interstellarer Raum ist nicht leer!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s gibt ….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ehr duennes Gas (1 Atom pro cm</a:t>
            </a:r>
            <a:r>
              <a:rPr b="0" lang="en-US" sz="1800" spc="-1" strike="noStrike" baseline="30000">
                <a:solidFill>
                  <a:srgbClr val="00007f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Magnetfelder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Helixbahn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fuer geladene Teilch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Isotropi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66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elix1.jpg"/>
          <p:cNvPicPr/>
          <p:nvPr/>
        </p:nvPicPr>
        <p:blipFill>
          <a:blip r:embed="rId2"/>
          <a:stretch/>
        </p:blipFill>
        <p:spPr>
          <a:xfrm>
            <a:off x="990720" y="3581280"/>
            <a:ext cx="5170320" cy="2865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002600" y="1905120"/>
            <a:ext cx="707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Magnetische Fluktuationen aendern die Bewegungsrichtung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00007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Richtungsumkehr ist moeglich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Black"/>
              </a:rPr>
              <a:t>Isotropie</a:t>
            </a:r>
            <a:endParaRPr b="0" lang="en-US" sz="4400" spc="-1" strike="noStrike">
              <a:solidFill>
                <a:srgbClr val="00007f"/>
              </a:solidFill>
              <a:latin typeface="Arial Black"/>
            </a:endParaRPr>
          </a:p>
        </p:txBody>
      </p:sp>
      <p:pic>
        <p:nvPicPr>
          <p:cNvPr id="70" name="Content Placeholder 5" descr="logo_desy.gif"/>
          <p:cNvPicPr/>
          <p:nvPr/>
        </p:nvPicPr>
        <p:blipFill>
          <a:blip r:embed="rId1"/>
          <a:stretch/>
        </p:blipFill>
        <p:spPr>
          <a:xfrm>
            <a:off x="533520" y="274680"/>
            <a:ext cx="1101600" cy="1076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901800" y="2057400"/>
            <a:ext cx="7494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Energiereiche Teilchen erzeugen magnetische Fluktuationen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7f"/>
                </a:solidFill>
                <a:latin typeface="Arial Black"/>
              </a:rPr>
              <a:t>Die Natur strebt Isotropie an!</a:t>
            </a:r>
            <a:endParaRPr b="0" lang="en-US" sz="2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Wichtig: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- EM Wellen kleiner Ausbreitungsgeschwindigkeit  </a:t>
            </a:r>
            <a:r>
              <a:rPr b="0" lang="en-US" sz="1800" spc="-1" strike="noStrike">
                <a:solidFill>
                  <a:srgbClr val="00007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sind magnetisch!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 Black"/>
              </a:rPr>
              <a:t>- Es gibt Resonanzen zwischen Teilchen und EM Wellen</a:t>
            </a:r>
            <a:endParaRPr b="0" lang="en-US" sz="18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2:13:43Z</dcterms:created>
  <dc:creator>mkp</dc:creator>
  <dc:description/>
  <dc:language>en-US</dc:language>
  <cp:lastModifiedBy>mkp</cp:lastModifiedBy>
  <dcterms:modified xsi:type="dcterms:W3CDTF">2009-11-06T02:04:03Z</dcterms:modified>
  <cp:revision>26</cp:revision>
  <dc:subject/>
  <dc:title>Woher kommen  kosmische Teilchen?</dc:title>
</cp:coreProperties>
</file>